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23A-3959-475F-A620-2DA6554B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778-FC7F-4805-828E-E4B4AC0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A12-F414-4268-AFB4-C4C2063B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79B-7948-4EB3-8BA6-28376F25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9145-559B-4D40-94CF-4AFC1495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B6F-9F1F-47B8-966B-A3E20DB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D0D5-B2C0-4BA8-A31D-DA1DD455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2B40-8F7D-42B8-B731-7ABE4156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0EB-D79C-4F14-9483-5B02BDDE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ADA0-FEB5-4255-80AE-7F40BBA4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8DC2-DE91-420A-9714-5F2801C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8F5-B4CC-4C35-BFD1-D9AC213C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2FF-17AF-41B6-97D0-6920919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B79-1460-4786-8A29-16DE741D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061-BEE8-4F64-A6A8-1058A5A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40A4-0C3E-4500-A1A7-B0702367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372-F659-44B8-A7FC-DF1A83B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14A-D2B9-47B1-B085-16BA933E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58C-698E-485E-88EF-FD58965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D22-6131-42D1-89D5-F01F86AD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FAD-CBB4-4D71-967C-566D274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CD4-DC31-4446-9B83-B5BEF4A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E2D-A2C9-4DF0-963E-7167679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2CC-56D3-48A2-BBA8-9C54476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Ma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828440" y="6248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89960" y="6475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5F94D6-A662-49C3-B051-D03F6C43AF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906120" cy="515880"/>
            <a:chOff x="0" y="0"/>
            <a:chExt cx="9906120" cy="515880"/>
          </a:xfrm>
        </p:grpSpPr>
        <p:pic>
          <p:nvPicPr>
            <p:cNvPr id="7" name="Unt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420040" cy="5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" name=""/>
            <p:cNvGrpSpPr/>
            <p:nvPr/>
          </p:nvGrpSpPr>
          <p:grpSpPr>
            <a:xfrm>
              <a:off x="8381880" y="0"/>
              <a:ext cx="1524240" cy="515880"/>
              <a:chOff x="8381880" y="0"/>
              <a:chExt cx="1524240" cy="515880"/>
            </a:xfrm>
          </p:grpSpPr>
          <p:sp>
            <p:nvSpPr>
              <p:cNvPr id="9" name=""/>
              <p:cNvSpPr/>
              <p:nvPr/>
            </p:nvSpPr>
            <p:spPr>
              <a:xfrm>
                <a:off x="8381880" y="0"/>
                <a:ext cx="1524240" cy="51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" name="ISATEC_ENG_GRau1" descr=""/>
              <p:cNvPicPr/>
              <p:nvPr/>
            </p:nvPicPr>
            <p:blipFill>
              <a:blip r:embed="rId4"/>
              <a:stretch/>
            </p:blipFill>
            <p:spPr>
              <a:xfrm>
                <a:off x="8497800" y="36360"/>
                <a:ext cx="12924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12" name="RWTH_Logo" descr=""/>
          <p:cNvPicPr/>
          <p:nvPr/>
        </p:nvPicPr>
        <p:blipFill>
          <a:blip r:embed="rId6"/>
          <a:stretch/>
        </p:blipFill>
        <p:spPr>
          <a:xfrm>
            <a:off x="380880" y="5943600"/>
            <a:ext cx="1301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151920" y="64785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1AA-A99E-407D-98C0-D79C7C99EF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281916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7695720" y="6477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B2C9878-7855-43EF-8420-7368729B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54" name="Unten2" descr=""/>
          <p:cNvPicPr/>
          <p:nvPr/>
        </p:nvPicPr>
        <p:blipFill>
          <a:blip r:embed="rId3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0"/>
            <a:ext cx="9906120" cy="515880"/>
            <a:chOff x="0" y="0"/>
            <a:chExt cx="9906120" cy="515880"/>
          </a:xfrm>
        </p:grpSpPr>
        <p:pic>
          <p:nvPicPr>
            <p:cNvPr id="56" name="Unten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8420040" cy="5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8381880" y="0"/>
              <a:ext cx="1524240" cy="515880"/>
              <a:chOff x="8381880" y="0"/>
              <a:chExt cx="1524240" cy="515880"/>
            </a:xfrm>
          </p:grpSpPr>
          <p:sp>
            <p:nvSpPr>
              <p:cNvPr id="58" name=""/>
              <p:cNvSpPr/>
              <p:nvPr/>
            </p:nvSpPr>
            <p:spPr>
              <a:xfrm>
                <a:off x="8381880" y="0"/>
                <a:ext cx="1524240" cy="51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" name="ISATEC_ENG_GRau1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7800" y="36360"/>
                <a:ext cx="12924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rd_vc_crates_oben_komplett" descr=""/>
          <p:cNvPicPr/>
          <p:nvPr/>
        </p:nvPicPr>
        <p:blipFill>
          <a:blip r:embed="rId1"/>
          <a:stretch/>
        </p:blipFill>
        <p:spPr>
          <a:xfrm>
            <a:off x="1352520" y="782640"/>
            <a:ext cx="7199280" cy="529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112400">
            <a:off x="748080" y="3213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Y-C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8272440" y="300672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+Y-C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63120" y="121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71760" y="16002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2520" y="9144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And Electronics Crates (incl. VC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BC8-936F-4168-90BF-4E5E463DF5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B44E4-01AB-463F-AF5E-B0C846DB5CA6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mt_komplett_frontal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ACC Cabling To S-Crate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35680" y="347040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Al-Cover on PM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272280" y="3619440"/>
            <a:ext cx="61416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0680" y="318456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(schemat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60D-F7E0-4E0F-88E4-46D2D8A62DB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DB989-25EB-4F05-8EE5-B0C0CA4F7865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mt_komplett_schraeg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ACC Cabling To S-Crate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59440" y="5060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Al-Cover on PM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962160" y="48769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FFA-4BED-4AA5-B3C1-50A943A223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D38D6-8F92-4F64-AE61-4528900142D5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ms_2_ges_mit_kabel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And ACC Cabling And Thermal Insulation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0800" y="5346720"/>
            <a:ext cx="66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l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114440" y="441936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C0B-599B-459B-B5AD-68EDED44530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543CD-30E9-4D63-8D7D-8FF8529A239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rd_hv_sg_downside_view" descr=""/>
          <p:cNvPicPr/>
          <p:nvPr/>
        </p:nvPicPr>
        <p:blipFill>
          <a:blip r:embed="rId1"/>
          <a:stretch/>
        </p:blipFill>
        <p:spPr>
          <a:xfrm>
            <a:off x="1349280" y="880920"/>
            <a:ext cx="7205760" cy="5094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To U-Crate (View From Bottom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91720" y="1066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22924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14560" y="16002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2520" y="1143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65240" y="14320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(schemat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0C1-589A-4294-9142-5F29EE7989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61EB1-0437-40DE-B681-E5C892D0F159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rd_hv_sg_wall1" descr=""/>
          <p:cNvPicPr/>
          <p:nvPr/>
        </p:nvPicPr>
        <p:blipFill>
          <a:blip r:embed="rId1"/>
          <a:stretch/>
        </p:blipFill>
        <p:spPr>
          <a:xfrm>
            <a:off x="1349280" y="880920"/>
            <a:ext cx="7205760" cy="5094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Octagon Walls 1-3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4D9-A2BE-4E9B-ABC7-BC9AA2BC034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2F437-5A38-46C3-B161-4CF167AAD98E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rd_hv_sg_wall5" descr=""/>
          <p:cNvPicPr/>
          <p:nvPr/>
        </p:nvPicPr>
        <p:blipFill>
          <a:blip r:embed="rId1"/>
          <a:stretch/>
        </p:blipFill>
        <p:spPr>
          <a:xfrm>
            <a:off x="1349280" y="880920"/>
            <a:ext cx="7205760" cy="509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Octagon Walls 3-5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93B-FCEB-4B69-B320-CD780654920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4BD3-52C1-4A9B-8347-06B821517439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rd_hv_sg_wall4_schraeg" descr=""/>
          <p:cNvPicPr/>
          <p:nvPr/>
        </p:nvPicPr>
        <p:blipFill>
          <a:blip r:embed="rId1"/>
          <a:stretch/>
        </p:blipFill>
        <p:spPr>
          <a:xfrm>
            <a:off x="1349280" y="880920"/>
            <a:ext cx="7205760" cy="5094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Octagon Walls 3-5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DEC-9458-42E7-927E-A508020B94A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CFBE6-0B72-49BC-937A-97FAB95E1DB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rd_hv_sg_schraeg_minx" descr=""/>
          <p:cNvPicPr/>
          <p:nvPr/>
        </p:nvPicPr>
        <p:blipFill>
          <a:blip r:embed="rId1"/>
          <a:stretch/>
        </p:blipFill>
        <p:spPr>
          <a:xfrm>
            <a:off x="1349280" y="880920"/>
            <a:ext cx="7205760" cy="5094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Octagon Walls 3-5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101-98D9-4BFA-AEF7-498C0EB2674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36808-C289-4C5B-93CB-B3F6462A455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rd_hv_sg_walls2_3" descr=""/>
          <p:cNvPicPr/>
          <p:nvPr/>
        </p:nvPicPr>
        <p:blipFill>
          <a:blip r:embed="rId1"/>
          <a:stretch/>
        </p:blipFill>
        <p:spPr>
          <a:xfrm>
            <a:off x="1349280" y="685800"/>
            <a:ext cx="7205760" cy="5484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and MLI Penetration (Proposed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7440" y="1609560"/>
            <a:ext cx="92376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677440" y="685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85960" y="18288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07440" y="13716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0240" y="685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34040" y="1609560"/>
            <a:ext cx="7239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B08-C3B6-4E21-8084-7DFFA27C59B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32E4D-7863-4F93-92E0-0200BAE264BB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rd_hv_sg_walls1_2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Octagon Walls 1 And 2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981000" y="4076640"/>
            <a:ext cx="288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19160" y="4876920"/>
            <a:ext cx="62856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6600" y="49244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49816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3240" y="406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90240" y="4876920"/>
            <a:ext cx="6001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9D4-4A83-4D6E-9CA6-B25575C98EA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2BDCE-334F-47EF-AB7B-B7A044B6D136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rd_hv_sg_walls4_5" descr=""/>
          <p:cNvPicPr/>
          <p:nvPr/>
        </p:nvPicPr>
        <p:blipFill>
          <a:blip r:embed="rId1"/>
          <a:stretch/>
        </p:blipFill>
        <p:spPr>
          <a:xfrm>
            <a:off x="1349280" y="1149480"/>
            <a:ext cx="7205760" cy="4557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TRD Cabling and MLI Penetration (Proposed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47800" y="2200320"/>
            <a:ext cx="838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638000" y="1371240"/>
            <a:ext cx="5724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1676520"/>
            <a:ext cx="542880" cy="51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6720" y="13716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2920" y="24382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80840" y="1143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37F-DBEA-497B-A325-BF3456072E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30E66-7B9D-49D9-BBFC-477035A12DC9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6:25:25Z</dcterms:created>
  <dc:creator>Uly</dc:creator>
  <dc:description/>
  <dc:language>en-US</dc:language>
  <cp:lastModifiedBy>Uly</cp:lastModifiedBy>
  <dcterms:modified xsi:type="dcterms:W3CDTF">2004-05-18T07:47:41Z</dcterms:modified>
  <cp:revision>2</cp:revision>
  <dc:subject/>
  <dc:title>TRD And Electronics Crates (incl. VC)</dc:title>
</cp:coreProperties>
</file>