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907588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9A71-EDAC-4EC3-A2EB-91EB3AE6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160" y="349200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178-7136-4E72-ADCC-5BC0D1CC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232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516-1CFA-4FC6-8AA7-80A8A662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2152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1024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16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2152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1024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FF7-0A93-4D69-B7EA-96A18A51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DE5D-E711-4A10-AC8F-9626EDDA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39A6-FF94-47DC-B766-EC233C65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45AA-BF87-44BE-82DA-E88BF01C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7B39-3EFA-44D9-AFBF-699119D2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CCAC-9092-4BA1-9E9E-018B2DC0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20480" y="6400800"/>
            <a:ext cx="7264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56D8-7EE0-4DA5-97A0-9029C37C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99DF-E23C-4CB9-95B6-F3E176C5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095-966A-4CE1-8858-869BF273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232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B276-8279-48DA-ABA5-7A418850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2C65-58DC-4879-BBCC-62667104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160" y="349200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9C43-2D79-4CBB-8356-126DE0A1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232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C39A-E984-4666-823B-D540FD27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2152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1024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16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2152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1024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F0ED-C618-4F9F-B874-224B0C08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05E-8BA9-4DC2-9C73-986ED993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184-4729-4F29-A3B2-9B0A4D32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C69-7D0E-4CFC-BB6D-76CB4B86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20480" y="6400800"/>
            <a:ext cx="7264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978-02AF-444D-B048-BFA8293A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ADE9-6366-4C78-B590-0D9A68D4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232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882-9EDD-4F25-B4E4-272F3DCB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E4A6-6F82-435E-A15A-F74F0315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hts" descr=""/>
          <p:cNvPicPr/>
          <p:nvPr/>
        </p:nvPicPr>
        <p:blipFill>
          <a:blip r:embed="rId2"/>
          <a:stretch/>
        </p:blipFill>
        <p:spPr>
          <a:xfrm>
            <a:off x="9575640" y="4356000"/>
            <a:ext cx="138240" cy="1955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. Nov.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1828440" y="624852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244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448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689960" y="64753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ie </a:t>
            </a:r>
            <a:fld id="{51C50D20-6CAF-4DA3-82B2-19260F9FE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448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906120" cy="515880"/>
            <a:chOff x="0" y="0"/>
            <a:chExt cx="9906120" cy="515880"/>
          </a:xfrm>
        </p:grpSpPr>
        <p:pic>
          <p:nvPicPr>
            <p:cNvPr id="7" name="Unten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420040" cy="51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" name=""/>
            <p:cNvGrpSpPr/>
            <p:nvPr/>
          </p:nvGrpSpPr>
          <p:grpSpPr>
            <a:xfrm>
              <a:off x="8381880" y="0"/>
              <a:ext cx="1524240" cy="515880"/>
              <a:chOff x="8381880" y="0"/>
              <a:chExt cx="1524240" cy="515880"/>
            </a:xfrm>
          </p:grpSpPr>
          <p:sp>
            <p:nvSpPr>
              <p:cNvPr id="9" name=""/>
              <p:cNvSpPr/>
              <p:nvPr/>
            </p:nvSpPr>
            <p:spPr>
              <a:xfrm>
                <a:off x="8381880" y="0"/>
                <a:ext cx="1524240" cy="515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" name="ISATEC_ENG_GRau1" descr=""/>
              <p:cNvPicPr/>
              <p:nvPr/>
            </p:nvPicPr>
            <p:blipFill>
              <a:blip r:embed="rId4"/>
              <a:stretch/>
            </p:blipFill>
            <p:spPr>
              <a:xfrm>
                <a:off x="8497800" y="36360"/>
                <a:ext cx="1292400" cy="44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" name="Unten2" descr=""/>
          <p:cNvPicPr/>
          <p:nvPr/>
        </p:nvPicPr>
        <p:blipFill>
          <a:blip r:embed="rId5"/>
          <a:stretch/>
        </p:blipFill>
        <p:spPr>
          <a:xfrm>
            <a:off x="1733400" y="6172200"/>
            <a:ext cx="7977240" cy="1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hts" descr=""/>
          <p:cNvPicPr/>
          <p:nvPr/>
        </p:nvPicPr>
        <p:blipFill>
          <a:blip r:embed="rId2"/>
          <a:stretch/>
        </p:blipFill>
        <p:spPr>
          <a:xfrm>
            <a:off x="9575640" y="4356000"/>
            <a:ext cx="138240" cy="1955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151920" y="647856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CD3E-1A20-4E11-81BF-3283A7CAEE8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2819160" y="63244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244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448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7695720" y="64771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ie </a:t>
            </a:r>
            <a:fld id="{0B8B578A-ADD2-468A-ADDA-64BADDC85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761760" y="18284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44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448"/>
              </a:solidFill>
              <a:latin typeface="Arial"/>
            </a:endParaRPr>
          </a:p>
        </p:txBody>
      </p:sp>
      <p:pic>
        <p:nvPicPr>
          <p:cNvPr id="53" name="Unten2" descr=""/>
          <p:cNvPicPr/>
          <p:nvPr/>
        </p:nvPicPr>
        <p:blipFill>
          <a:blip r:embed="rId3"/>
          <a:stretch/>
        </p:blipFill>
        <p:spPr>
          <a:xfrm>
            <a:off x="1733400" y="6172200"/>
            <a:ext cx="7977240" cy="17460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0" y="0"/>
            <a:ext cx="9906120" cy="515880"/>
            <a:chOff x="0" y="0"/>
            <a:chExt cx="9906120" cy="515880"/>
          </a:xfrm>
        </p:grpSpPr>
        <p:pic>
          <p:nvPicPr>
            <p:cNvPr id="55" name="Unten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8420040" cy="51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8381880" y="0"/>
              <a:ext cx="1524240" cy="515880"/>
              <a:chOff x="8381880" y="0"/>
              <a:chExt cx="1524240" cy="515880"/>
            </a:xfrm>
          </p:grpSpPr>
          <p:sp>
            <p:nvSpPr>
              <p:cNvPr id="57" name=""/>
              <p:cNvSpPr/>
              <p:nvPr/>
            </p:nvSpPr>
            <p:spPr>
              <a:xfrm>
                <a:off x="8381880" y="0"/>
                <a:ext cx="1524240" cy="515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8" name="ISATEC_ENG_GRau1" descr=""/>
              <p:cNvPicPr/>
              <p:nvPr/>
            </p:nvPicPr>
            <p:blipFill>
              <a:blip r:embed="rId5"/>
              <a:stretch/>
            </p:blipFill>
            <p:spPr>
              <a:xfrm>
                <a:off x="8497800" y="36360"/>
                <a:ext cx="1292400" cy="44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altes_m_ub_frontal01" descr=""/>
          <p:cNvPicPr/>
          <p:nvPr/>
        </p:nvPicPr>
        <p:blipFill>
          <a:blip r:embed="rId1"/>
          <a:stretch/>
        </p:blipFill>
        <p:spPr>
          <a:xfrm>
            <a:off x="1352520" y="882720"/>
            <a:ext cx="7199280" cy="5091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448"/>
                </a:solidFill>
                <a:latin typeface="Arial"/>
              </a:rPr>
              <a:t>M-Struktur, Upper Bracket (alter Stand)</a:t>
            </a: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156A-B5FA-42FD-B0AB-03DDFD7B10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E14C4-98CE-4EEC-894D-B0B74DE85673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neues_m_ub_frontal01" descr=""/>
          <p:cNvPicPr/>
          <p:nvPr/>
        </p:nvPicPr>
        <p:blipFill>
          <a:blip r:embed="rId1"/>
          <a:stretch/>
        </p:blipFill>
        <p:spPr>
          <a:xfrm>
            <a:off x="1352520" y="882720"/>
            <a:ext cx="7199280" cy="5091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448"/>
                </a:solidFill>
                <a:latin typeface="Arial"/>
              </a:rPr>
              <a:t>M-Struktur, Upper Bracket (neues Modell)</a:t>
            </a: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3FF-66EB-4137-857A-E90DA77601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DADF4-7C2D-4504-8E13-C35807D41A19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altes_m_ub_schraeg01" descr=""/>
          <p:cNvPicPr/>
          <p:nvPr/>
        </p:nvPicPr>
        <p:blipFill>
          <a:blip r:embed="rId1"/>
          <a:stretch/>
        </p:blipFill>
        <p:spPr>
          <a:xfrm>
            <a:off x="1352520" y="882720"/>
            <a:ext cx="7199280" cy="50911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448"/>
                </a:solidFill>
                <a:latin typeface="Arial"/>
              </a:rPr>
              <a:t>M-Struktur, Upper Bracket, C-Connector (alter Stand)</a:t>
            </a: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9C5-731C-4623-B2BC-C9BD21CEBC0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4733E-D647-4599-8212-E234B1090652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neues_m_ub_schraeg01" descr=""/>
          <p:cNvPicPr/>
          <p:nvPr/>
        </p:nvPicPr>
        <p:blipFill>
          <a:blip r:embed="rId1"/>
          <a:stretch/>
        </p:blipFill>
        <p:spPr>
          <a:xfrm>
            <a:off x="1352520" y="882720"/>
            <a:ext cx="7199280" cy="5091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448"/>
                </a:solidFill>
                <a:latin typeface="Arial"/>
              </a:rPr>
              <a:t>M-Struktur, Upper Bracket, C-Connector (neues Modell)</a:t>
            </a: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023B-CE71-470F-870B-708A276F46E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75014-F7A9-40A0-93FC-2ABC101974B2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9T12:27:07Z</dcterms:created>
  <dc:creator>Uly</dc:creator>
  <dc:description/>
  <dc:language>en-US</dc:language>
  <cp:lastModifiedBy>Uly</cp:lastModifiedBy>
  <dcterms:modified xsi:type="dcterms:W3CDTF">2004-11-29T12:32:06Z</dcterms:modified>
  <cp:revision>1</cp:revision>
  <dc:subject/>
  <dc:title>M-Struktur, Upper Bracket (alter Stand)</dc:title>
</cp:coreProperties>
</file>