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BA4-4D6C-4F3B-871B-406EEBB8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07F-9EFA-492D-84C7-9056538C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F74-E4A2-475A-AFBE-B26C089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480-94B9-4182-9587-C4EC0AA1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8DE1-12C3-4A95-BC0F-1462FAF3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EF63-A2D1-4FF2-A84E-C558A85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7005-97CD-4E29-A354-DB8EA41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C37-DD30-43AD-B222-FA37E72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05C-E93E-4CE7-9034-83268E55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D582-B41B-49D0-8327-94BFFB08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5F03-7F37-4AFF-A4EA-725274D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A36-4F1F-4969-8CED-16203E2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DAC5-F047-4BDA-8866-08748FA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3BED-648E-4EAD-836D-E2BE361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06D-4FC0-4437-846B-5C369878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BD96-DDBF-4C1E-8138-3DB91D82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EB1-3F8E-4AC8-8AD0-7FFF0945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C4F-14E7-42F3-93F9-8DB20AC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D3D-7E87-464B-AA0E-02765B76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B49-BC05-4C30-AAAA-BCB11F9D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3F8-108C-4C5F-86BA-B4375A2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7BE-365E-41C1-9A04-974A1FC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398-1DFE-4EDE-A6BA-379918F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F80-2BF7-4901-94C9-B778490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828440" y="6248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89960" y="6475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C13547D-BE6D-4FCD-84E9-032197286B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7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8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9" name="RWTH_Logo" descr=""/>
          <p:cNvPicPr/>
          <p:nvPr/>
        </p:nvPicPr>
        <p:blipFill>
          <a:blip r:embed="rId6"/>
          <a:stretch/>
        </p:blipFill>
        <p:spPr>
          <a:xfrm>
            <a:off x="146160" y="5929200"/>
            <a:ext cx="1301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pic>
        <p:nvPicPr>
          <p:cNvPr id="47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151920" y="64785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1916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695720" y="6477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10C5703-BF49-4335-B016-99F7FE4D91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52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RWTH_Logo" descr=""/>
          <p:cNvPicPr/>
          <p:nvPr/>
        </p:nvPicPr>
        <p:blipFill>
          <a:blip r:embed="rId6"/>
          <a:stretch/>
        </p:blipFill>
        <p:spPr>
          <a:xfrm>
            <a:off x="152280" y="5929200"/>
            <a:ext cx="1301760" cy="557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2448"/>
                </a:solidFill>
                <a:latin typeface="Arial"/>
              </a:rPr>
              <a:t>AMS02 TRD</a:t>
            </a:r>
            <a:br>
              <a:rPr sz="4400"/>
            </a:br>
            <a:r>
              <a:rPr b="1" lang="de-DE" sz="4400" spc="-1" strike="noStrike">
                <a:solidFill>
                  <a:srgbClr val="002448"/>
                </a:solidFill>
                <a:latin typeface="Arial"/>
              </a:rPr>
              <a:t>CAD DATA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 Correspo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40630_TRD_SV_Rev1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E66D-7A3D-4E5E-A9A5-FACB8918C32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3A0E437-C7A0-40FD-854E-02305F45BBCD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rd_total_01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6553080" y="1143000"/>
            <a:ext cx="9907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7640" y="11430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762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15200" y="1828800"/>
            <a:ext cx="9907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695720" y="20574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752480"/>
            <a:ext cx="6289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930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pp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cket (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438280"/>
            <a:ext cx="6285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-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809720" y="4038120"/>
            <a:ext cx="55260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6483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ner Bracket (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828800" y="4343400"/>
            <a:ext cx="2761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B4E-685A-450C-A6AA-14748164CA0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9DA34-E6C5-44AC-8663-6E9A9DD01230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rd_total_02_topless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6400440" y="1219320"/>
            <a:ext cx="2286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762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838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n + Core of Upper Cover de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7840" y="1200240"/>
            <a:ext cx="47880" cy="75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C4C-2C77-4186-9A10-3687F072FD3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DB7BA-231C-44C8-B446-ED243842C22E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rd_total_02_zoom" descr=""/>
          <p:cNvPicPr/>
          <p:nvPr/>
        </p:nvPicPr>
        <p:blipFill>
          <a:blip r:embed="rId1"/>
          <a:stretch/>
        </p:blipFill>
        <p:spPr>
          <a:xfrm>
            <a:off x="1371600" y="563400"/>
            <a:ext cx="7819920" cy="5303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114800"/>
            <a:ext cx="1752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400"/>
            <a:ext cx="220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ang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071-FBAE-421A-BEB6-FD17BED93AC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192E7-9521-4A23-808F-DCC2E5CD962F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rd_total_01_ecke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0" y="5334120"/>
            <a:ext cx="2514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-Structure Diagonal Str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638320" y="3657600"/>
            <a:ext cx="121932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752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-Profile = integrated p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 Upper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629040" y="121896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05520" y="182880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784760"/>
            <a:ext cx="68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020000" y="4247640"/>
            <a:ext cx="1085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147-FF4C-46D8-AEF2-03039FF04B5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4C4B4-3052-4262-992E-2B61C5619277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of_bracket_m_ecke" descr=""/>
          <p:cNvPicPr/>
          <p:nvPr/>
        </p:nvPicPr>
        <p:blipFill>
          <a:blip r:embed="rId1"/>
          <a:srcRect l="0" t="8279" r="6089" b="0"/>
          <a:stretch/>
        </p:blipFill>
        <p:spPr>
          <a:xfrm>
            <a:off x="990720" y="685800"/>
            <a:ext cx="6172200" cy="5067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162920" y="137160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/F M-Structure / Corner Bracket  and I/F UTOF / Corner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637-3034-4B92-8805-640F9C61F57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A9408-A1C0-4974-A08E-88581E77116D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s_bracket_diagonalstrebe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7201080" cy="5353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82560" y="638316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1432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D Corner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648320"/>
            <a:ext cx="5410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gonal Struts w/ Connection to M-Structur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., 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30mm, t = 3mm, L = 867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236232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l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x 60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15200" y="2362320"/>
            <a:ext cx="1038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668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53480" y="4419720"/>
            <a:ext cx="1038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8153280" y="2457000"/>
            <a:ext cx="571680" cy="209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2457360"/>
            <a:ext cx="567000" cy="2062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36232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0 x 60 x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905120"/>
            <a:ext cx="10670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3160" y="3162240"/>
            <a:ext cx="43812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AE5-7E33-46E1-8C30-0D0614D2657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1F184-9E06-4EC9-8E97-D1AA9EAB2541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_diagonalstrebe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7201080" cy="535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2560" y="638316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799160"/>
            <a:ext cx="38862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gonal Struts, Connection to M-Structu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l-Connector removed, see Fig. 1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637-B950-4281-9071-15027715824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D292-8E05-49B9-8E20-BBB0E055A13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9:52:59Z</dcterms:created>
  <dc:creator>Jens</dc:creator>
  <dc:description/>
  <dc:language>en-US</dc:language>
  <cp:lastModifiedBy>Frank</cp:lastModifiedBy>
  <dcterms:modified xsi:type="dcterms:W3CDTF">2004-11-03T16:39:25Z</dcterms:modified>
  <cp:revision>411</cp:revision>
  <dc:subject/>
  <dc:title>PowerPoint-Präsentation</dc:title>
</cp:coreProperties>
</file>