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D6C-38D5-4672-8040-2CA5CBD0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E25-8818-48F7-9D70-0C4738A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686-AD63-4A60-AC4E-277239A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E06-1DB9-433B-856A-8EF1FFD8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006D-CD32-4E3C-86B1-9E1494DF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6A8F-39C7-47C8-811C-787F762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50CD-1EAB-4410-A089-2FE93EB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5DD2-E99E-4EC2-A2F7-E469E4B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715D-22BE-4605-A42D-C8050A0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0C60-F5CC-400D-A093-5D189F1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33B7-2B13-469C-AC07-0DF98AA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ECD-AC40-4BCF-BDC1-4FD5A22C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2F4-15E2-41BA-86BB-F07109C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ECB3-B0A9-4344-98DC-C0A6100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55BF-7EF4-4BF5-88CF-5235156B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7EC-E527-4C82-95AA-A838D7C4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2152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10240" y="201924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16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2152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10240" y="3492000"/>
            <a:ext cx="28458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409-4912-434F-B61E-5CB8DC98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75F-5C4E-4615-BCB0-C76232F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D8C-E85B-434D-A5ED-304357C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A73-10B5-490A-8A68-531B70AC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20480" y="6400800"/>
            <a:ext cx="7264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16-2254-4465-8899-24E208F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55A-8065-4160-9B7F-D503F2C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2320" y="349200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34F-802C-456E-9765-C5A6FCD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2320" y="2019240"/>
            <a:ext cx="43131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492000"/>
            <a:ext cx="883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73D-E994-44C0-84D3-027DA25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201924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828440" y="6248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89960" y="6475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FE4881F-A3D8-44E6-8102-D7B43B92E4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20480" y="6400800"/>
            <a:ext cx="726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7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8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9" name="RWTH_Logo" descr=""/>
          <p:cNvPicPr/>
          <p:nvPr/>
        </p:nvPicPr>
        <p:blipFill>
          <a:blip r:embed="rId6"/>
          <a:stretch/>
        </p:blipFill>
        <p:spPr>
          <a:xfrm>
            <a:off x="146160" y="5929200"/>
            <a:ext cx="1301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hts" descr=""/>
          <p:cNvPicPr/>
          <p:nvPr/>
        </p:nvPicPr>
        <p:blipFill>
          <a:blip r:embed="rId2"/>
          <a:stretch/>
        </p:blipFill>
        <p:spPr>
          <a:xfrm>
            <a:off x="9575640" y="4356000"/>
            <a:ext cx="138240" cy="1955880"/>
          </a:xfrm>
          <a:prstGeom prst="rect">
            <a:avLst/>
          </a:prstGeom>
          <a:ln w="0">
            <a:noFill/>
          </a:ln>
        </p:spPr>
      </p:pic>
      <p:pic>
        <p:nvPicPr>
          <p:cNvPr id="47" name="Unten" descr=""/>
          <p:cNvPicPr/>
          <p:nvPr/>
        </p:nvPicPr>
        <p:blipFill>
          <a:blip r:embed="rId3"/>
          <a:stretch/>
        </p:blipFill>
        <p:spPr>
          <a:xfrm>
            <a:off x="0" y="0"/>
            <a:ext cx="8420040" cy="514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151920" y="64785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Nov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1916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>
                <a:solidFill>
                  <a:srgbClr val="00244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448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695720" y="6477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DC4ABB6-DED4-416D-8BB2-500F032512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pic>
        <p:nvPicPr>
          <p:cNvPr id="52" name="ISATEC_ENG_GRau1" descr=""/>
          <p:cNvPicPr/>
          <p:nvPr/>
        </p:nvPicPr>
        <p:blipFill>
          <a:blip r:embed="rId4"/>
          <a:stretch/>
        </p:blipFill>
        <p:spPr>
          <a:xfrm>
            <a:off x="8488440" y="44280"/>
            <a:ext cx="129204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Unten2" descr=""/>
          <p:cNvPicPr/>
          <p:nvPr/>
        </p:nvPicPr>
        <p:blipFill>
          <a:blip r:embed="rId5"/>
          <a:stretch/>
        </p:blipFill>
        <p:spPr>
          <a:xfrm>
            <a:off x="1733400" y="6172200"/>
            <a:ext cx="79772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RWTH_Logo" descr=""/>
          <p:cNvPicPr/>
          <p:nvPr/>
        </p:nvPicPr>
        <p:blipFill>
          <a:blip r:embed="rId6"/>
          <a:stretch/>
        </p:blipFill>
        <p:spPr>
          <a:xfrm>
            <a:off x="152280" y="5929200"/>
            <a:ext cx="1301760" cy="557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2448"/>
                </a:solidFill>
                <a:latin typeface="Arial"/>
              </a:rPr>
              <a:t>AMS02 TRD</a:t>
            </a:r>
            <a:br>
              <a:rPr sz="4400"/>
            </a:br>
            <a:r>
              <a:rPr b="1" lang="de-DE" sz="4400" spc="-1" strike="noStrike">
                <a:solidFill>
                  <a:srgbClr val="002448"/>
                </a:solidFill>
                <a:latin typeface="Arial"/>
              </a:rPr>
              <a:t>CAD DATA</a:t>
            </a:r>
            <a:endParaRPr b="1" lang="en-US" sz="4400" spc="-1" strike="noStrike">
              <a:solidFill>
                <a:srgbClr val="00244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 Correspo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40630_TRD_SV_Rev1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AF50-EA64-4631-85E8-0B08E35E29C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4AF1F1-0F6C-4BA6-9877-153EEFC94F4E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rd_total_01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6553080" y="1143000"/>
            <a:ext cx="9907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7640" y="11430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762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15200" y="1828800"/>
            <a:ext cx="9907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695720" y="20574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752480"/>
            <a:ext cx="6289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930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pp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cket (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438280"/>
            <a:ext cx="6285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-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809720" y="4038120"/>
            <a:ext cx="55260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6483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ner Bracket (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828800" y="4343400"/>
            <a:ext cx="2761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018-F5B4-477C-828A-566D45140A3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AB1D5-1DD3-4E60-8503-0DE38BF1E8DC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rd_total_02_topless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6400440" y="1219320"/>
            <a:ext cx="2286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762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838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n + Core of Upper Cover de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7840" y="1200240"/>
            <a:ext cx="47880" cy="75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935-906A-4CB8-83E7-988E3D2CAC5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C93AE-A1C9-4389-943B-2B4BF08B5E6D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rd_total_02_zoom" descr=""/>
          <p:cNvPicPr/>
          <p:nvPr/>
        </p:nvPicPr>
        <p:blipFill>
          <a:blip r:embed="rId1"/>
          <a:stretch/>
        </p:blipFill>
        <p:spPr>
          <a:xfrm>
            <a:off x="1371600" y="563400"/>
            <a:ext cx="7819920" cy="5303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114800"/>
            <a:ext cx="1752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400"/>
            <a:ext cx="220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ang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B6D-29B2-4CFD-B4D1-D9A2DE35A6A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5F16E-F25C-4662-81F6-5AFB93CC7C18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rd_total_01_ecke" descr=""/>
          <p:cNvPicPr/>
          <p:nvPr/>
        </p:nvPicPr>
        <p:blipFill>
          <a:blip r:embed="rId1"/>
          <a:stretch/>
        </p:blipFill>
        <p:spPr>
          <a:xfrm>
            <a:off x="1352520" y="685800"/>
            <a:ext cx="7199280" cy="509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0" y="5334120"/>
            <a:ext cx="2514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-Structure Diagonal Str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638320" y="3657600"/>
            <a:ext cx="121932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752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-Profile = integrated p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 Upper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629040" y="121896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05520" y="182880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784760"/>
            <a:ext cx="68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020000" y="4247640"/>
            <a:ext cx="1085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3B3-4573-47F3-BABA-71EEC7E3A7B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824D0-97D5-44EC-9487-1515ECACE3FE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of_bracket_m_ecke" descr=""/>
          <p:cNvPicPr/>
          <p:nvPr/>
        </p:nvPicPr>
        <p:blipFill>
          <a:blip r:embed="rId1"/>
          <a:srcRect l="0" t="8279" r="6089" b="0"/>
          <a:stretch/>
        </p:blipFill>
        <p:spPr>
          <a:xfrm>
            <a:off x="990720" y="685800"/>
            <a:ext cx="6172200" cy="5067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162920" y="137160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/F M-Structure / Corner Bracket  and I/F UTOF / Corner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14B-C6F1-4485-A16A-60C6B91410D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8D36F-1553-463B-9894-25D6E05C0921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s_bracket_diagonalstrebe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7201080" cy="5353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82560" y="638316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1432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D Corner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648320"/>
            <a:ext cx="5410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gonal Struts w/ Connection to M-Structur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., 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30mm, t = 3mm, L = 867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236232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l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x 60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15200" y="2362320"/>
            <a:ext cx="1038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668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53480" y="4419720"/>
            <a:ext cx="1038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8153280" y="2457000"/>
            <a:ext cx="571680" cy="209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2457360"/>
            <a:ext cx="567000" cy="2062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36232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0 x 60 x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905120"/>
            <a:ext cx="10670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3160" y="3162240"/>
            <a:ext cx="43812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ED1-1D52-4FFC-8F33-02ABEF2EF0A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B58E4-90D4-46EF-B9FB-DF3286E1BEC0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_diagonalstrebe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7201080" cy="535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2560" y="638316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799160"/>
            <a:ext cx="38862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gonal Struts, Connection to M-Structu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l-Connector removed, see Fig. 1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g.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4C8-0B26-40AE-B27E-92C61D1CEA6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D714E-300E-483D-8BA6-3935AF7938F2}" type="datetime1">
              <a:rPr lang="en-US"/>
              <a:t>07/31/26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9:52:59Z</dcterms:created>
  <dc:creator>Jens</dc:creator>
  <dc:description/>
  <dc:language>en-US</dc:language>
  <cp:lastModifiedBy>Frank</cp:lastModifiedBy>
  <dcterms:modified xsi:type="dcterms:W3CDTF">2004-11-03T16:39:25Z</dcterms:modified>
  <cp:revision>411</cp:revision>
  <dc:subject/>
  <dc:title>PowerPoint-Präsentation</dc:title>
</cp:coreProperties>
</file>