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B1A1-67FA-4600-8B8A-FF8168980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883908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160" y="3492000"/>
            <a:ext cx="883908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30F0-1560-44FB-AFD1-4E9EE1A1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2320" y="201924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160" y="349200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2320" y="349200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1E3C-E9A2-47A4-85C8-FF2799334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28458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21520" y="2019240"/>
            <a:ext cx="28458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10240" y="2019240"/>
            <a:ext cx="28458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160" y="3492000"/>
            <a:ext cx="28458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21520" y="3492000"/>
            <a:ext cx="28458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10240" y="3492000"/>
            <a:ext cx="28458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3712-0ECA-4631-B44E-98A7A1D4D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68F70-4E50-48AF-9B87-E5D6108B7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33160" y="2019240"/>
            <a:ext cx="883908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F7D2-F2C2-4921-BC4E-7F3D677C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88390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7AAE-B46A-489A-B718-D6A691AB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43131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2320" y="2019240"/>
            <a:ext cx="43131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DF5E9-80F0-4810-A34E-35F407F2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DBF2-C6B8-4A45-95AD-52369837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20480" y="6400800"/>
            <a:ext cx="72644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E910-2A33-4CF4-A26B-CBB0885B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2320" y="2019240"/>
            <a:ext cx="43131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160" y="349200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EFDE-52E9-4C17-8C70-ED68A8B2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160" y="2019240"/>
            <a:ext cx="883908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A58A-5196-41BA-AA66-D81D1A4C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43131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2320" y="201924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62320" y="349200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587C-9F82-4444-95F2-45B4B3D5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2320" y="201924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160" y="3492000"/>
            <a:ext cx="883908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8A16-EF40-4614-A056-B6A4027A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883908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3160" y="3492000"/>
            <a:ext cx="883908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EB21-EBBC-4C57-8ECB-5173A25D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62320" y="201924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33160" y="349200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62320" y="349200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D39E-A2DF-452B-9C0B-124D4C296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28458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21520" y="2019240"/>
            <a:ext cx="28458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10240" y="2019240"/>
            <a:ext cx="28458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33160" y="3492000"/>
            <a:ext cx="28458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21520" y="3492000"/>
            <a:ext cx="28458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510240" y="3492000"/>
            <a:ext cx="28458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2817-D494-42EB-8E6A-132636691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88390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C143-DE86-40C5-A268-C10ADFD3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43131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2320" y="2019240"/>
            <a:ext cx="43131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47DC-C69A-4525-BB3E-7BD8AA42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6200-7760-42BF-9942-BD088407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20480" y="6400800"/>
            <a:ext cx="72644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8D2C-4CAF-462E-891B-E59E1350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2320" y="2019240"/>
            <a:ext cx="43131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160" y="349200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EE8D-DE44-4B51-9063-4480D87F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43131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2320" y="201924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2320" y="349200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C6B1-CC36-47E0-9382-443D62B5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2320" y="201924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3492000"/>
            <a:ext cx="883908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7378-5D15-4279-9D3F-CBA34DC2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Rechts" descr=""/>
          <p:cNvPicPr/>
          <p:nvPr/>
        </p:nvPicPr>
        <p:blipFill>
          <a:blip r:embed="rId2"/>
          <a:stretch/>
        </p:blipFill>
        <p:spPr>
          <a:xfrm>
            <a:off x="9575640" y="4356000"/>
            <a:ext cx="138240" cy="1955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160" y="2019240"/>
            <a:ext cx="88390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Unten" descr=""/>
          <p:cNvPicPr/>
          <p:nvPr/>
        </p:nvPicPr>
        <p:blipFill>
          <a:blip r:embed="rId3"/>
          <a:stretch/>
        </p:blipFill>
        <p:spPr>
          <a:xfrm>
            <a:off x="0" y="0"/>
            <a:ext cx="8420040" cy="51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4 Nov 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828440" y="624852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2000" spc="-1" strike="noStrike">
                <a:solidFill>
                  <a:srgbClr val="00244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2448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689960" y="64753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929698E2-367E-43EB-9167-5B443FAC78A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448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pic>
        <p:nvPicPr>
          <p:cNvPr id="7" name="ISATEC_ENG_GRau1" descr=""/>
          <p:cNvPicPr/>
          <p:nvPr/>
        </p:nvPicPr>
        <p:blipFill>
          <a:blip r:embed="rId4"/>
          <a:stretch/>
        </p:blipFill>
        <p:spPr>
          <a:xfrm>
            <a:off x="8488440" y="44280"/>
            <a:ext cx="1292040" cy="444600"/>
          </a:xfrm>
          <a:prstGeom prst="rect">
            <a:avLst/>
          </a:prstGeom>
          <a:ln w="0">
            <a:noFill/>
          </a:ln>
        </p:spPr>
      </p:pic>
      <p:pic>
        <p:nvPicPr>
          <p:cNvPr id="8" name="Unten2" descr=""/>
          <p:cNvPicPr/>
          <p:nvPr/>
        </p:nvPicPr>
        <p:blipFill>
          <a:blip r:embed="rId5"/>
          <a:stretch/>
        </p:blipFill>
        <p:spPr>
          <a:xfrm>
            <a:off x="1733400" y="6172200"/>
            <a:ext cx="7977240" cy="174600"/>
          </a:xfrm>
          <a:prstGeom prst="rect">
            <a:avLst/>
          </a:prstGeom>
          <a:ln w="0">
            <a:noFill/>
          </a:ln>
        </p:spPr>
      </p:pic>
      <p:pic>
        <p:nvPicPr>
          <p:cNvPr id="9" name="RWTH_Logo" descr=""/>
          <p:cNvPicPr/>
          <p:nvPr/>
        </p:nvPicPr>
        <p:blipFill>
          <a:blip r:embed="rId6"/>
          <a:stretch/>
        </p:blipFill>
        <p:spPr>
          <a:xfrm>
            <a:off x="146160" y="5929200"/>
            <a:ext cx="1301760" cy="55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Rechts" descr=""/>
          <p:cNvPicPr/>
          <p:nvPr/>
        </p:nvPicPr>
        <p:blipFill>
          <a:blip r:embed="rId2"/>
          <a:stretch/>
        </p:blipFill>
        <p:spPr>
          <a:xfrm>
            <a:off x="9575640" y="4356000"/>
            <a:ext cx="138240" cy="1955880"/>
          </a:xfrm>
          <a:prstGeom prst="rect">
            <a:avLst/>
          </a:prstGeom>
          <a:ln w="0">
            <a:noFill/>
          </a:ln>
        </p:spPr>
      </p:pic>
      <p:pic>
        <p:nvPicPr>
          <p:cNvPr id="47" name="Unten" descr=""/>
          <p:cNvPicPr/>
          <p:nvPr/>
        </p:nvPicPr>
        <p:blipFill>
          <a:blip r:embed="rId3"/>
          <a:stretch/>
        </p:blipFill>
        <p:spPr>
          <a:xfrm>
            <a:off x="0" y="0"/>
            <a:ext cx="8420040" cy="5144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151920" y="647856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4 Nov 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2819160" y="63244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2000" spc="-1" strike="noStrike">
                <a:solidFill>
                  <a:srgbClr val="00244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2448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7695720" y="64771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olie </a:t>
            </a:r>
            <a:fld id="{5AE382B1-03A7-4055-A9C0-81E6FE504A0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761760" y="182844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44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2448"/>
              </a:solidFill>
              <a:latin typeface="Arial"/>
            </a:endParaRPr>
          </a:p>
        </p:txBody>
      </p:sp>
      <p:pic>
        <p:nvPicPr>
          <p:cNvPr id="52" name="ISATEC_ENG_GRau1" descr=""/>
          <p:cNvPicPr/>
          <p:nvPr/>
        </p:nvPicPr>
        <p:blipFill>
          <a:blip r:embed="rId4"/>
          <a:stretch/>
        </p:blipFill>
        <p:spPr>
          <a:xfrm>
            <a:off x="8488440" y="44280"/>
            <a:ext cx="1292040" cy="444600"/>
          </a:xfrm>
          <a:prstGeom prst="rect">
            <a:avLst/>
          </a:prstGeom>
          <a:ln w="0">
            <a:noFill/>
          </a:ln>
        </p:spPr>
      </p:pic>
      <p:pic>
        <p:nvPicPr>
          <p:cNvPr id="53" name="Unten2" descr=""/>
          <p:cNvPicPr/>
          <p:nvPr/>
        </p:nvPicPr>
        <p:blipFill>
          <a:blip r:embed="rId5"/>
          <a:stretch/>
        </p:blipFill>
        <p:spPr>
          <a:xfrm>
            <a:off x="1733400" y="6172200"/>
            <a:ext cx="7977240" cy="174600"/>
          </a:xfrm>
          <a:prstGeom prst="rect">
            <a:avLst/>
          </a:prstGeom>
          <a:ln w="0">
            <a:noFill/>
          </a:ln>
        </p:spPr>
      </p:pic>
      <p:pic>
        <p:nvPicPr>
          <p:cNvPr id="54" name="RWTH_Logo" descr=""/>
          <p:cNvPicPr/>
          <p:nvPr/>
        </p:nvPicPr>
        <p:blipFill>
          <a:blip r:embed="rId6"/>
          <a:stretch/>
        </p:blipFill>
        <p:spPr>
          <a:xfrm>
            <a:off x="152280" y="5929200"/>
            <a:ext cx="1301760" cy="55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62120" y="1828800"/>
            <a:ext cx="8381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2448"/>
                </a:solidFill>
                <a:latin typeface="Arial"/>
              </a:rPr>
              <a:t>TRD Sup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2448"/>
                </a:solidFill>
                <a:latin typeface="Arial"/>
              </a:rPr>
              <a:t>Corner Brack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2448"/>
                </a:solidFill>
                <a:latin typeface="Arial"/>
              </a:rPr>
              <a:t>Design Version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8551-9D51-421E-896D-5CB734F75F7F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FB5430-1090-4122-9907-83BA347017B6}" type="datetime1">
              <a:rPr lang="en-US"/>
              <a:t>07/31/26</a:t>
            </a:fld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05120" y="63244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ew of I/F to U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b_alt_uss_seite_schraeg" descr=""/>
          <p:cNvPicPr/>
          <p:nvPr/>
        </p:nvPicPr>
        <p:blipFill>
          <a:blip r:embed="rId1"/>
          <a:stretch/>
        </p:blipFill>
        <p:spPr>
          <a:xfrm>
            <a:off x="1352520" y="762120"/>
            <a:ext cx="7199280" cy="509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170B-24DB-4F9A-862B-7F7F6B68F7C7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D8AD13-46B2-444C-BCAA-88F95508C940}" type="datetime1">
              <a:rPr lang="en-US"/>
              <a:t>07/31/26</a:t>
            </a:fld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905120" y="63244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ew of I/F to U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cb_alt_uss_seite" descr=""/>
          <p:cNvPicPr/>
          <p:nvPr/>
        </p:nvPicPr>
        <p:blipFill>
          <a:blip r:embed="rId1"/>
          <a:stretch/>
        </p:blipFill>
        <p:spPr>
          <a:xfrm>
            <a:off x="1352520" y="762120"/>
            <a:ext cx="7199280" cy="509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FC2B-5839-4F9D-A84F-125EEA3531C3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6CCCEA-8914-4B04-AAFE-4B1E0BE076E6}" type="datetime1">
              <a:rPr lang="en-US"/>
              <a:t>07/31/26</a:t>
            </a:fld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905120" y="63244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ew of I/F to U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cb_alt_tof_seite_schraeg" descr=""/>
          <p:cNvPicPr/>
          <p:nvPr/>
        </p:nvPicPr>
        <p:blipFill>
          <a:blip r:embed="rId1"/>
          <a:stretch/>
        </p:blipFill>
        <p:spPr>
          <a:xfrm>
            <a:off x="1352520" y="762120"/>
            <a:ext cx="7199280" cy="509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2F35-0B78-4832-95DD-8FC736936E2F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5CFAE4-A030-44E1-875F-72DE51EAC6B8}" type="datetime1">
              <a:rPr lang="en-US"/>
              <a:t>07/31/26</a:t>
            </a:fld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905120" y="63244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ew of I/F to U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cb_alt_tof_seite" descr=""/>
          <p:cNvPicPr/>
          <p:nvPr/>
        </p:nvPicPr>
        <p:blipFill>
          <a:blip r:embed="rId1"/>
          <a:stretch/>
        </p:blipFill>
        <p:spPr>
          <a:xfrm>
            <a:off x="1352520" y="762120"/>
            <a:ext cx="7199280" cy="509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F875-5DFC-4A20-8779-03F8B6B64D8F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F87100-DEA1-49C9-82AF-B960B2D8DBA6}" type="datetime1">
              <a:rPr lang="en-US"/>
              <a:t>07/31/26</a:t>
            </a:fld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4T09:52:59Z</dcterms:created>
  <dc:creator>Jens</dc:creator>
  <dc:description/>
  <dc:language>en-US</dc:language>
  <cp:lastModifiedBy>Frank</cp:lastModifiedBy>
  <dcterms:modified xsi:type="dcterms:W3CDTF">2004-11-04T11:51:29Z</dcterms:modified>
  <cp:revision>418</cp:revision>
  <dc:subject/>
  <dc:title>PowerPoint-Präsentation</dc:title>
</cp:coreProperties>
</file>